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0D5-2041-4D36-BC3B-6C5F2BE019C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7D0-AEF8-4729-A002-223FB9CD3A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06D-AD0D-4FFC-B780-CF5651C727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1AC-6F58-4F0C-8ACD-768AABE8BCA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6ED-DDF0-471F-8094-F7320C51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15A-4D8C-43B9-98A8-B8EF286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544-D00C-4182-8FF5-81BF6826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5D3-1FDA-4F27-AE61-2379DEB9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1DFF-81B4-4467-A968-E0ABB1DD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3AD-8134-459A-A350-D974BEC0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2C3E-F58B-410D-9A41-A150B113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8CD-B115-4C71-B6C6-CBE3758C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302E-1EF6-44EB-B241-A65F135F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2009-0021-4885-9EAA-1104A03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E36B-CEA4-434D-96AA-4BB6C75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061-F25E-45A4-AAEF-C247E2CD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526-6A6F-424F-9D7F-48C7293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A81-A171-4569-9381-C668DC1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6850-C87E-4087-964A-204AEC4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44DF-A415-4EEB-80D3-C3C174E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B8F7-7819-440D-91C9-D756E76D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45D-5709-480E-A826-B2B3B147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BE-36F0-440D-BC9D-185FC2C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4F8-07DC-453C-A880-96921FC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901-4735-4C3E-AC5E-4804BF9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AE8-6198-4B28-8694-C2D4179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4C1-D1A2-4437-8B07-41587643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AC6-81AD-4E4A-9662-0DB4668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925-F0AD-4F60-9C16-482AA08EDCCD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itaglia e arrotonda singolo angolo rettangolo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iangolo rettangolo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gura a mano libera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igura a mano libera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965-C061-45DB-8D79-8265DA64D19F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30320" y="103320"/>
            <a:ext cx="9013680" cy="6754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egnaposto contenuto 3" descr="DSC00170_0.tmp"/>
          <p:cNvPicPr/>
          <p:nvPr/>
        </p:nvPicPr>
        <p:blipFill>
          <a:blip r:embed="rId1"/>
          <a:stretch/>
        </p:blipFill>
        <p:spPr>
          <a:xfrm>
            <a:off x="0" y="139680"/>
            <a:ext cx="9144000" cy="6718320"/>
          </a:xfrm>
          <a:prstGeom prst="rect">
            <a:avLst/>
          </a:prstGeom>
          <a:ln w="0">
            <a:noFill/>
          </a:ln>
        </p:spPr>
      </p:pic>
      <p:pic>
        <p:nvPicPr>
          <p:cNvPr id="131" name="Decalogo Video.pptx301.wav" descr=""/>
          <p:cNvPicPr/>
          <p:nvPr/>
        </p:nvPicPr>
        <p:blipFill>
          <a:blip r:embed="rId2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1" i="1" lang="it-IT" sz="4400" spc="-1" strike="noStrike">
                <a:solidFill>
                  <a:srgbClr val="04617b"/>
                </a:solidFill>
                <a:latin typeface="Calibri"/>
              </a:rPr>
              <a:t>CAPACITA' E ABILITA’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Constantia"/>
              </a:rPr>
              <a:t>Parliamo di competenze e professionalit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pperplate Gothic Bold"/>
              </a:rPr>
              <a:t>   </a:t>
            </a: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Adattatevi alla tempra, all’indole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alle inclinazioni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e alle circostanze di ognuno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Segnaposto contenuto 3" descr="DSC005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Nastro perforato 5"/>
          <p:cNvSpPr/>
          <p:nvPr/>
        </p:nvSpPr>
        <p:spPr>
          <a:xfrm>
            <a:off x="331920" y="4492800"/>
            <a:ext cx="6126120" cy="2108160"/>
          </a:xfrm>
          <a:prstGeom prst="flowChartPunchedTape">
            <a:avLst/>
          </a:prstGeom>
          <a:solidFill>
            <a:srgbClr val="7e9632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Handwriting"/>
              </a:rPr>
              <a:t>Teresa ripeteva con convinzione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Lucida Handwriting"/>
              </a:rPr>
              <a:t>Solo Dio!” Ma soleva esortare le sue suore a “lasciar Dio per Dio” per servirlo nel pross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Decalogo Video.pptx283.wav" descr=""/>
          <p:cNvPicPr/>
          <p:nvPr/>
        </p:nvPicPr>
        <p:blipFill>
          <a:blip r:embed="rId2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olo 1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1090800"/>
          </a:xfrm>
          <a:prstGeom prst="rect">
            <a:avLst/>
          </a:prstGeom>
          <a:ln w="0">
            <a:noFill/>
          </a:ln>
        </p:spPr>
      </p:pic>
      <p:sp>
        <p:nvSpPr>
          <p:cNvPr id="139" name="Rettangolo 2"/>
          <p:cNvSpPr/>
          <p:nvPr/>
        </p:nvSpPr>
        <p:spPr>
          <a:xfrm>
            <a:off x="611280" y="1989000"/>
            <a:ext cx="77770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in un sereno atteggiamento di ascol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E’ il prendersi cura…, “l’i care”, che suggerisce di  intervenire sempre con paz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attesa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pperplate Gothic Bold"/>
              </a:rPr>
              <a:t>    </a:t>
            </a: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Fatevi possibilmente vicine, ma con tali modi e accorgimenti che semb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              </a:t>
            </a: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desiderio della loro compagnia il desiderio che avete  della loro crescit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data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847-7BE2-4E1B-8301-E5A40F7DA60A}" type="datetime">
              <a:rPr b="0" lang="it-IT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2A2-29E5-48AA-914C-0792E7B35BBF}" type="slidenum">
              <a:rPr b="0" lang="it-IT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prunier_fleurs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it-IT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4900" spc="-1" strike="noStrike">
                <a:solidFill>
                  <a:srgbClr val="04617b"/>
                </a:solidFill>
                <a:latin typeface="Calibri"/>
              </a:rPr>
              <a:t>6.</a:t>
            </a:r>
            <a:r>
              <a:rPr b="1" i="1" lang="it-IT" sz="4500" spc="-1" strike="noStrike">
                <a:solidFill>
                  <a:srgbClr val="04617b"/>
                </a:solidFill>
                <a:latin typeface="Calibri"/>
              </a:rPr>
              <a:t> L’INDIVIDUALIZZAZIO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gradFill rotWithShape="0">
            <a:gsLst>
              <a:gs pos="0">
                <a:srgbClr val="64ffff"/>
              </a:gs>
              <a:gs pos="100000">
                <a:srgbClr val="b5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degli interventi, nello sforzo costant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di una progressiva e approfondita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conoscenza del soggetto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Mostrate di amarle con tenerezza ”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  “</a:t>
            </a:r>
            <a:r>
              <a:rPr b="1" i="1" lang="it-IT" sz="4000" spc="-1" strike="noStrike">
                <a:solidFill>
                  <a:srgbClr val="ff0000"/>
                </a:solidFill>
                <a:latin typeface="Copperplate Gothic Bold"/>
              </a:rPr>
              <a:t>Entrate con la loro per   uscire con la vostra”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data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DCCD-5A5F-4C9F-971C-D04EC8679D2E}" type="datetime">
              <a:rPr b="0" lang="it-IT" sz="1200" spc="-1" strike="noStrike">
                <a:solidFill>
                  <a:srgbClr val="045c75"/>
                </a:solidFill>
                <a:latin typeface="Constanti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BAE6-DEB6-4B71-AE2D-C466B5BC9FC4}" type="slidenum">
              <a:rPr b="0" lang="it-IT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viragzo-fa-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olo 1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49" name="Rettangolo 2"/>
          <p:cNvSpPr/>
          <p:nvPr/>
        </p:nvSpPr>
        <p:spPr>
          <a:xfrm>
            <a:off x="0" y="1916280"/>
            <a:ext cx="9144000" cy="5578200"/>
          </a:xfrm>
          <a:prstGeom prst="rect">
            <a:avLst/>
          </a:prstGeom>
          <a:gradFill rotWithShape="0">
            <a:gsLst>
              <a:gs pos="0">
                <a:srgbClr val="00b6c0"/>
              </a:gs>
              <a:gs pos="100000">
                <a:srgbClr val="0c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b5395"/>
                </a:solidFill>
                <a:latin typeface="Constantia"/>
              </a:rPr>
              <a:t>trascurando quegli aspetti non essenz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b5395"/>
                </a:solidFill>
                <a:latin typeface="Constantia"/>
              </a:rPr>
              <a:t>allo sviluppo della pers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4400" spc="-1" strike="noStrike">
                <a:solidFill>
                  <a:srgbClr val="ff0000"/>
                </a:solidFill>
                <a:latin typeface="Copperplate Gothic Bold"/>
              </a:rPr>
              <a:t>Il  rigore non vale che   a serrare il cuor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4400" spc="-1" strike="noStrike">
                <a:solidFill>
                  <a:srgbClr val="ff0000"/>
                </a:solidFill>
                <a:latin typeface="Copperplate Gothic Bold"/>
              </a:rPr>
              <a:t>Usate dolcezza, soavità e condiscendenza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olo 3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nstantia"/>
              </a:rPr>
              <a:t>Puntare sul dominio della propria volontà e sull’efficacia dell'autodeterminazione, perché si sviluppi nei giovan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onstantia"/>
              </a:rPr>
              <a:t>una giusta gerarchia dei valor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Sia vostra mira di educarle alle virtù…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  “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E’ necessario dar mano all’interiore e renderlo possibilmen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    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mortificato e virtuoso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 “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Persuadete le giovani che nulla vi è di peggio che l’egoismo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pperplate Gothic Bol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ttangolo 1"/>
          <p:cNvSpPr/>
          <p:nvPr/>
        </p:nvSpPr>
        <p:spPr>
          <a:xfrm>
            <a:off x="2286000" y="158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5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5400" spc="-1" strike="noStrike">
                <a:solidFill>
                  <a:srgbClr val="04617b"/>
                </a:solidFill>
                <a:latin typeface="Calibri"/>
              </a:rPr>
              <a:t>9. </a:t>
            </a:r>
            <a:r>
              <a:rPr b="1" i="1" lang="it-IT" sz="5000" spc="-1" strike="noStrike">
                <a:solidFill>
                  <a:srgbClr val="04617b"/>
                </a:solidFill>
                <a:latin typeface="Calibri"/>
              </a:rPr>
              <a:t>L’EDUCAZIONE ALLA LIBERTA'</a:t>
            </a: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54" name="Segnaposto contenuto 3"/>
          <p:cNvGrpSpPr/>
          <p:nvPr/>
        </p:nvGrpSpPr>
        <p:grpSpPr>
          <a:xfrm>
            <a:off x="-208080" y="1457280"/>
            <a:ext cx="9431280" cy="5516640"/>
            <a:chOff x="-208080" y="1457280"/>
            <a:chExt cx="9431280" cy="5516640"/>
          </a:xfrm>
        </p:grpSpPr>
        <p:pic>
          <p:nvPicPr>
            <p:cNvPr id="155" name="Segnaposto contenuto 3" descr=""/>
            <p:cNvPicPr/>
            <p:nvPr/>
          </p:nvPicPr>
          <p:blipFill>
            <a:blip r:embed="rId1"/>
            <a:stretch/>
          </p:blipFill>
          <p:spPr>
            <a:xfrm>
              <a:off x="-208080" y="1457280"/>
              <a:ext cx="943128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5"/>
            <p:cNvSpPr/>
            <p:nvPr/>
          </p:nvSpPr>
          <p:spPr>
            <a:xfrm>
              <a:off x="0" y="1557360"/>
              <a:ext cx="9144000" cy="53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Constantia"/>
                </a:rPr>
                <a:t>alla responsabilità dei propri atti e all’uso di un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Constantia"/>
                </a:rPr>
                <a:t>libertà vigilat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“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Si deve lasciare alle giovani una santa libertà, perché sappiano che il giogo del Signore è soave e i suoi servi sono liberi”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“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Una santa libertà, sì che operin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 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volentieri e in pieno accordo quello che, oppresse da comando, farebbero come peso e  violenza”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 “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Copperplate Gothic Bold"/>
                </a:rPr>
                <a:t>Costruite una persona libera, larga e sciolta”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Decalogo Video.pptx271.wav" descr=""/>
          <p:cNvPicPr/>
          <p:nvPr/>
        </p:nvPicPr>
        <p:blipFill>
          <a:blip r:embed="rId2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it-IT" sz="2800" spc="-1" strike="noStrike">
                <a:solidFill>
                  <a:srgbClr val="04617b"/>
                </a:solidFill>
                <a:latin typeface="Lucida Handwriting"/>
              </a:rPr>
              <a:t>“</a:t>
            </a:r>
            <a:r>
              <a:rPr b="0" lang="it-IT" sz="3600" spc="-1" strike="noStrike">
                <a:solidFill>
                  <a:srgbClr val="000000"/>
                </a:solidFill>
                <a:latin typeface="Lucida Handwriting"/>
              </a:rPr>
              <a:t>L’educazione mi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Handwriting"/>
              </a:rPr>
              <a:t>sta molto a cuore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Segnaposto contenuto 7" descr="n523788393_9963.jpg"/>
          <p:cNvPicPr/>
          <p:nvPr/>
        </p:nvPicPr>
        <p:blipFill>
          <a:blip r:embed="rId1"/>
          <a:stretch/>
        </p:blipFill>
        <p:spPr>
          <a:xfrm>
            <a:off x="4859280" y="3213000"/>
            <a:ext cx="4284720" cy="3645000"/>
          </a:xfrm>
          <a:prstGeom prst="rect">
            <a:avLst/>
          </a:prstGeom>
          <a:ln w="0">
            <a:noFill/>
          </a:ln>
        </p:spPr>
      </p:pic>
      <p:sp>
        <p:nvSpPr>
          <p:cNvPr id="107" name="Rettangolo 7"/>
          <p:cNvSpPr/>
          <p:nvPr/>
        </p:nvSpPr>
        <p:spPr>
          <a:xfrm>
            <a:off x="5148360" y="213372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Handwriting"/>
              </a:rPr>
              <a:t>L’educazione mi sta molto a cuor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egnaposto contenuto 7" descr="n523788393_9963.jpg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Segnaposto contenuto 7" descr="n523788393_9963.jpg"/>
          <p:cNvPicPr/>
          <p:nvPr/>
        </p:nvPicPr>
        <p:blipFill>
          <a:blip r:embed="rId3"/>
          <a:stretch/>
        </p:blipFill>
        <p:spPr>
          <a:xfrm>
            <a:off x="468360" y="2133720"/>
            <a:ext cx="3527280" cy="3537000"/>
          </a:xfrm>
          <a:prstGeom prst="rect">
            <a:avLst/>
          </a:prstGeom>
          <a:ln w="0">
            <a:noFill/>
          </a:ln>
        </p:spPr>
      </p:pic>
      <p:sp>
        <p:nvSpPr>
          <p:cNvPr id="110" name="Rettangolo 11"/>
          <p:cNvSpPr/>
          <p:nvPr/>
        </p:nvSpPr>
        <p:spPr>
          <a:xfrm>
            <a:off x="0" y="587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Handwriting"/>
              </a:rPr>
              <a:t>L’educazione mi sta molto a cuor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Segnaposto contenuto 3" descr="1 Immagi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0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i="1" lang="it-IT" sz="5400" spc="-1" strike="noStrike">
                <a:solidFill>
                  <a:srgbClr val="04617b"/>
                </a:solidFill>
                <a:latin typeface="Calibri"/>
              </a:rPr>
              <a:t>10</a:t>
            </a:r>
            <a:r>
              <a:rPr b="0" i="1" lang="it-IT" sz="5400" spc="-1" strike="noStrike">
                <a:solidFill>
                  <a:srgbClr val="04617b"/>
                </a:solidFill>
                <a:latin typeface="Calibri"/>
              </a:rPr>
              <a:t>.</a:t>
            </a:r>
            <a:r>
              <a:rPr b="1" i="1" lang="it-IT" sz="5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5000" spc="-1" strike="noStrike">
                <a:solidFill>
                  <a:srgbClr val="04617b"/>
                </a:solidFill>
                <a:latin typeface="Calibri"/>
              </a:rPr>
              <a:t>LA CARITA' DEL CUORE</a:t>
            </a:r>
            <a:r>
              <a:rPr b="1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64ffff"/>
              </a:gs>
              <a:gs pos="100000">
                <a:srgbClr val="b5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Alla base dell'educazione è richiesto l’amore, che genera vita e condizione indispensabile                       di tutte le altre competenz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”</a:t>
            </a: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Siate benigne e soavi, con la dolcezza e la pazienza otterrete molto  più che con la severità e il terrore”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3200" spc="-1" strike="noStrike">
                <a:solidFill>
                  <a:srgbClr val="ff0000"/>
                </a:solidFill>
                <a:latin typeface="Copperplate Gothic Bold"/>
              </a:rPr>
              <a:t>Esigete e perdonate, perdonate ed esigete”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2743200" cy="4980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303e"/>
                </a:solidFill>
                <a:latin typeface="Lucida Handwriting"/>
              </a:rPr>
              <a:t>“</a:t>
            </a:r>
            <a:r>
              <a:rPr b="0" lang="it-IT" sz="2200" spc="-1" strike="noStrike">
                <a:solidFill>
                  <a:srgbClr val="02303e"/>
                </a:solidFill>
                <a:latin typeface="Lucida Handwriting"/>
              </a:rPr>
              <a:t>Lo spirito di Gesù Cristo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Handwriting"/>
              </a:rPr>
              <a:t>esso solo può suggerire alla mente e al cuore quei modi industri e appropriati, che tornano necessari o utili a procurare  la maggior gloria di Dio, e ottenere più sicuro e durevole il profitto dei prossimi.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Segnaposto contenuto 11" descr="Immagine 234.jpg"/>
          <p:cNvPicPr/>
          <p:nvPr/>
        </p:nvPicPr>
        <p:blipFill>
          <a:blip r:embed="rId1"/>
          <a:stretch/>
        </p:blipFill>
        <p:spPr>
          <a:xfrm>
            <a:off x="3575160" y="765000"/>
            <a:ext cx="5317920" cy="518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5" name="Picture 2" descr="fleurs_printemp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6" name="Decalogo Video.pptx307.wav" descr=""/>
          <p:cNvPicPr/>
          <p:nvPr/>
        </p:nvPicPr>
        <p:blipFill>
          <a:blip r:embed="rId2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olo 1" descr="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112" name="Rettangolo 2"/>
          <p:cNvSpPr/>
          <p:nvPr/>
        </p:nvSpPr>
        <p:spPr>
          <a:xfrm>
            <a:off x="0" y="1844640"/>
            <a:ext cx="9144000" cy="5091480"/>
          </a:xfrm>
          <a:prstGeom prst="rect">
            <a:avLst/>
          </a:prstGeom>
          <a:gradFill rotWithShape="0">
            <a:gsLst>
              <a:gs pos="0">
                <a:srgbClr val="64ffff"/>
              </a:gs>
              <a:gs pos="100000">
                <a:srgbClr val="b5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si colgo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Berlin Sans FB"/>
              </a:rPr>
              <a:t>dieci</a:t>
            </a: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 punti importan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non negoziabil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che evidenziano c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l’attenzione di Teres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sia rivolta più ai soggetti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che educano c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Berlin Sans FB"/>
              </a:rPr>
              <a:t>ai soggetti da educ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Immagine 2" descr="lef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CasellaDiTesto 3"/>
          <p:cNvSpPr/>
          <p:nvPr/>
        </p:nvSpPr>
        <p:spPr>
          <a:xfrm>
            <a:off x="5508720" y="0"/>
            <a:ext cx="3635280" cy="1191240"/>
          </a:xfrm>
          <a:prstGeom prst="rect">
            <a:avLst/>
          </a:prstGeom>
          <a:gradFill rotWithShape="0">
            <a:gsLst>
              <a:gs pos="0">
                <a:srgbClr val="63ccff"/>
              </a:gs>
              <a:gs pos="100000">
                <a:srgbClr val="b5e8ff"/>
              </a:gs>
            </a:gsLst>
            <a:lin ang="16200000"/>
          </a:gradFill>
          <a:ln w="9360">
            <a:solidFill>
              <a:srgbClr val="00b5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Lucida Handwriting"/>
              </a:rPr>
              <a:t>“</a:t>
            </a:r>
            <a:r>
              <a:rPr b="1" lang="it-IT" sz="2400" spc="-1" strike="noStrike">
                <a:solidFill>
                  <a:srgbClr val="0070c0"/>
                </a:solidFill>
                <a:latin typeface="Lucida Handwriting"/>
              </a:rPr>
              <a:t>L’educazi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Lucida Handwriting"/>
              </a:rPr>
              <a:t>mistero altissimo e divin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gradFill rotWithShape="0">
            <a:gsLst>
              <a:gs pos="0">
                <a:srgbClr val="64ffff"/>
              </a:gs>
              <a:gs pos="100000">
                <a:srgbClr val="b5ffff"/>
              </a:gs>
            </a:gsLst>
            <a:lin ang="16200000"/>
          </a:gradFill>
          <a:ln w="9360">
            <a:solidFill>
              <a:srgbClr val="00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onstantia"/>
              </a:rPr>
              <a:t>Decalogo dell’educazione </a:t>
            </a:r>
            <a:br>
              <a:rPr sz="4500"/>
            </a:br>
            <a:r>
              <a:rPr b="1" lang="it-IT" sz="4500" spc="-1" strike="noStrike">
                <a:solidFill>
                  <a:srgbClr val="ff0000"/>
                </a:solidFill>
                <a:latin typeface="Constantia"/>
              </a:rPr>
              <a:t>di S. Teresa Verzeri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341360"/>
            <a:ext cx="4495680" cy="5516640"/>
          </a:xfrm>
          <a:prstGeom prst="rect">
            <a:avLst/>
          </a:prstGeom>
          <a:gradFill rotWithShape="0">
            <a:gsLst>
              <a:gs pos="0">
                <a:srgbClr val="63ccff"/>
              </a:gs>
              <a:gs pos="100000">
                <a:srgbClr val="b5e8ff"/>
              </a:gs>
            </a:gsLst>
            <a:lin ang="16200000"/>
          </a:gradFill>
          <a:ln w="9360">
            <a:solidFill>
              <a:srgbClr val="00b5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. L’ AUTOREVOLEZZ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2. LA</a:t>
            </a:r>
            <a:r>
              <a:rPr b="0" i="1" lang="it-IT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TESTIMONIANZA PERSONAL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3. MATURITA’ ED EQUILIBR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4. CAPACITA' E ABILITA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5. LA PROSSIMITA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4720" y="1341360"/>
            <a:ext cx="4859280" cy="5516640"/>
          </a:xfrm>
          <a:prstGeom prst="rect">
            <a:avLst/>
          </a:prstGeom>
          <a:gradFill rotWithShape="0">
            <a:gsLst>
              <a:gs pos="0">
                <a:srgbClr val="63ccff"/>
              </a:gs>
              <a:gs pos="100000">
                <a:srgbClr val="b5e8ff"/>
              </a:gs>
            </a:gsLst>
            <a:lin ang="16200000"/>
          </a:gradFill>
          <a:ln w="9360">
            <a:solidFill>
              <a:srgbClr val="00b5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Bradley Hand ITC"/>
              </a:rPr>
              <a:t>6</a:t>
            </a:r>
            <a:r>
              <a:rPr b="1" i="1" lang="it-IT" sz="3000" spc="-1" strike="noStrike">
                <a:solidFill>
                  <a:srgbClr val="000000"/>
                </a:solidFill>
                <a:latin typeface="Bradley Hand ITC"/>
              </a:rPr>
              <a:t>. </a:t>
            </a:r>
            <a:r>
              <a:rPr b="1" i="1" lang="it-IT" sz="2600" spc="-1" strike="noStrike">
                <a:solidFill>
                  <a:srgbClr val="000000"/>
                </a:solidFill>
                <a:latin typeface="Bradley Hand ITC"/>
              </a:rPr>
              <a:t>INDIVIDUALIZZAZI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Bradley Hand ITC"/>
              </a:rPr>
              <a:t>7. </a:t>
            </a:r>
            <a:r>
              <a:rPr b="1" i="1" lang="it-IT" sz="2600" spc="-1" strike="noStrike">
                <a:solidFill>
                  <a:srgbClr val="000000"/>
                </a:solidFill>
                <a:latin typeface="Bradley Hand ITC"/>
              </a:rPr>
              <a:t>LA FORMAZIONE DÌ UNA COSCIENZA CRISTIA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Bradley Hand ITC"/>
              </a:rPr>
              <a:t>8. </a:t>
            </a:r>
            <a:r>
              <a:rPr b="1" i="1" lang="it-IT" sz="2800" spc="-1" strike="noStrike">
                <a:solidFill>
                  <a:srgbClr val="000000"/>
                </a:solidFill>
                <a:latin typeface="Bradley Hand ITC"/>
              </a:rPr>
              <a:t>L’EDUCAZIONE AI VALORI MORAL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Bradley Hand ITC"/>
              </a:rPr>
              <a:t>9. </a:t>
            </a:r>
            <a:r>
              <a:rPr b="1" i="1" lang="it-IT" sz="2600" spc="-1" strike="noStrike">
                <a:solidFill>
                  <a:srgbClr val="000000"/>
                </a:solidFill>
                <a:latin typeface="Bradley Hand ITC"/>
              </a:rPr>
              <a:t>L’EDUCAZIONE ALLA LIBERTA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Bradley Hand ITC"/>
              </a:rPr>
              <a:t>10. </a:t>
            </a:r>
            <a:r>
              <a:rPr b="1" i="1" lang="it-IT" sz="2600" spc="-1" strike="noStrike">
                <a:solidFill>
                  <a:srgbClr val="000000"/>
                </a:solidFill>
                <a:latin typeface="Bradley Hand ITC"/>
              </a:rPr>
              <a:t>LA CARITA' DEL CUO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itolo 3"/>
          <p:cNvSpPr/>
          <p:nvPr/>
        </p:nvSpPr>
        <p:spPr>
          <a:xfrm>
            <a:off x="530280" y="1316160"/>
            <a:ext cx="77724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ttangolo 1"/>
          <p:cNvSpPr/>
          <p:nvPr/>
        </p:nvSpPr>
        <p:spPr>
          <a:xfrm>
            <a:off x="0" y="333360"/>
            <a:ext cx="9144000" cy="1891800"/>
          </a:xfrm>
          <a:prstGeom prst="rect">
            <a:avLst/>
          </a:prstGeom>
          <a:solidFill>
            <a:srgbClr val="ffc000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b5395"/>
                </a:solidFill>
                <a:latin typeface="Berlin Sans FB"/>
              </a:rPr>
              <a:t> </a:t>
            </a:r>
            <a:r>
              <a:rPr b="0" lang="it-IT" sz="5400" spc="-1" strike="noStrike">
                <a:solidFill>
                  <a:srgbClr val="0b5395"/>
                </a:solidFill>
                <a:latin typeface="Berlin Sans FB"/>
              </a:rPr>
              <a:t>1.  </a:t>
            </a:r>
            <a:r>
              <a:rPr b="0" i="1" lang="it-IT" sz="4400" spc="-1" strike="noStrike">
                <a:solidFill>
                  <a:srgbClr val="0b5395"/>
                </a:solidFill>
                <a:latin typeface="Berlin Sans FB"/>
              </a:rPr>
              <a:t>L’ AUTOREVOLEZ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15964"/>
                </a:solidFill>
                <a:latin typeface="Constantia"/>
              </a:rPr>
              <a:t>della persona che edu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4"/>
          <p:cNvSpPr/>
          <p:nvPr/>
        </p:nvSpPr>
        <p:spPr>
          <a:xfrm>
            <a:off x="250920" y="404640"/>
            <a:ext cx="864216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Vorrei che aveste una superiorità efficac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Abbiamo bisogno di testimonial credibil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di interlocutori effica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nstantia"/>
              </a:rPr>
              <a:t>L’educatore deve avere autorevolezza e autor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”</a:t>
            </a:r>
            <a:r>
              <a:rPr b="1" i="1" lang="it-IT" sz="2800" spc="-1" strike="noStrike">
                <a:solidFill>
                  <a:srgbClr val="ff0000"/>
                </a:solidFill>
                <a:latin typeface="Copperplate Gothic Bold"/>
              </a:rPr>
              <a:t>Mortificate in loro il proprio sentire e il proprio volere  e se la ragione non vale, mostrate autorità e sostenete il gius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5"/>
          <p:cNvSpPr/>
          <p:nvPr/>
        </p:nvSpPr>
        <p:spPr>
          <a:xfrm>
            <a:off x="1403280" y="40464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magine 2" descr="Marc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4" name="MS900065441[1].mid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125" name="CD audio 4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0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br>
              <a:rPr sz="4500"/>
            </a:br>
            <a:r>
              <a:rPr b="1" lang="it-IT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it-IT" sz="6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1" i="1" lang="it-IT" sz="4500" spc="-1" strike="noStrike">
                <a:solidFill>
                  <a:srgbClr val="04617b"/>
                </a:solidFill>
                <a:latin typeface="Calibri"/>
              </a:rPr>
              <a:t>LA</a:t>
            </a:r>
            <a:r>
              <a:rPr b="0" i="1" lang="it-IT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it-IT" sz="4500" spc="-1" strike="noStrike">
                <a:solidFill>
                  <a:srgbClr val="04617b"/>
                </a:solidFill>
                <a:latin typeface="Calibri"/>
              </a:rPr>
              <a:t>TESTIMONIANZA PERSONA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in un</a:t>
            </a:r>
            <a:r>
              <a:rPr b="1" i="1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continuo processo di autoeducazion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e di autoformazio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0" i="1" lang="it-IT" sz="3200" spc="-1" strike="noStrike">
                <a:solidFill>
                  <a:srgbClr val="ff0000"/>
                </a:solidFill>
                <a:latin typeface="Copperplate Gothic Bold"/>
              </a:rPr>
              <a:t>Bisogna  mostrare con l'esempio prima di insegnare con le parole” 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Copperplate Gothic Bold"/>
              </a:rPr>
              <a:t>“ </a:t>
            </a:r>
            <a:r>
              <a:rPr b="0" i="1" lang="it-IT" sz="3200" spc="-1" strike="noStrike">
                <a:solidFill>
                  <a:srgbClr val="ff0000"/>
                </a:solidFill>
                <a:latin typeface="Copperplate Gothic Bold"/>
              </a:rPr>
              <a:t>Precedetele in ogni virtù con l’esempio, memori che più si  edifica facendo e operando che predicando senza operare”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12840"/>
          </a:xfrm>
          <a:prstGeom prst="rect">
            <a:avLst/>
          </a:prstGeom>
          <a:solidFill>
            <a:srgbClr val="ffc000"/>
          </a:solidFill>
          <a:ln w="9360">
            <a:solidFill>
              <a:srgbClr val="00ffb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it-IT" sz="4000" spc="-1" strike="noStrike">
                <a:solidFill>
                  <a:srgbClr val="000000"/>
                </a:solidFill>
                <a:latin typeface="Constantia"/>
              </a:rPr>
              <a:t>3. MATURITA' ED EQUILIBRI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Constantia"/>
              </a:rPr>
              <a:t>dell'educatore, in un costante  atteggiamento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Constantia"/>
              </a:rPr>
              <a:t>di edificazione dell'altr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Constantia"/>
              </a:rPr>
              <a:t>L’altro è sempre espressione unica e original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Non pretendete di condurre tutte sulle vie che voi camminate…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“</a:t>
            </a: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Come le fisionomie, così diversi sono gli spiriti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e come diversi gli spiriti, così son diverse le vie stabilit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0000"/>
                </a:solidFill>
                <a:latin typeface="Copperplate Gothic Bold"/>
              </a:rPr>
              <a:t>dalla sapienza di Dio per condurre a santificazion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5:44:12Z</dcterms:created>
  <dc:creator>Suor Eugenia</dc:creator>
  <dc:description/>
  <dc:language>en-US</dc:language>
  <cp:lastModifiedBy>Qumran2</cp:lastModifiedBy>
  <dcterms:modified xsi:type="dcterms:W3CDTF">2011-03-29T18:28:18Z</dcterms:modified>
  <cp:revision>66</cp:revision>
  <dc:subject/>
  <dc:title>Diapositiva 1</dc:title>
</cp:coreProperties>
</file>